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A2A-7519-47ED-A44F-39A3FE84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177-4FB6-4379-BD7D-F48BA10F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2D7-0834-4983-BDF0-45067E5D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8CD-200B-497A-ACDF-65442A8C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3AAC-A6FB-48A4-A0B8-4D1DA8B0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516E-7E14-41D6-9EC4-F5FA67C2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D729-C12F-4CB0-9689-9003547C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B479-8711-4AC8-BFA8-7D5F93F5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88DB-DF2A-4AFA-89F0-0BB02D37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689E-A1D4-48A0-8CF4-269C4204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5D6C-B9FC-4B45-A530-EBE4FB8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931-69E8-463A-AD72-60E7BD2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FB79-577A-48CB-8564-F927DD84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3F31-3C6A-4507-8ABA-3517A83E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1773-947C-4F4E-9086-8BB9FB4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ED72-C74E-43D1-8ABB-8C93F5C5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AB06-C300-43D6-82DC-96EE1654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B96-CBAF-4B52-8A71-11C0371D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596-FDAE-4A37-B272-0EEEA625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5A4-A031-48C8-9F75-4224AEBE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08D-D62A-4ACB-B3C1-3285FF3A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2D3-2515-4180-B27A-96F3BA87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C4A-EFFB-4329-BA48-2F192DA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B3C-DA6C-4C6E-95C1-F0ABE15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5456-6FD7-4A63-9863-B73B7EE0FE1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BB43-7EE4-4BBC-A73C-E51BADA72F5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ensguide.gpo.gov/3-5/state/arkansas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ostcardsfrom.com/t1/981218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1371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he 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9/20/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#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1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181480" cy="28242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 flipH="1" rot="39600">
            <a:off x="3428280" y="426708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2670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2819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50 States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Arkansas Song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, 10/7/2010, www.50states.com/arkans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name: Arkans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capitol: Little Rock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population: 2,779,154 peop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nickname: The Natural St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flower: Apple Blosso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te bird: Mocking bir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re is also a cave that you can go to and they take you on tours of the cav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 went and it was one of the coolest things I ever done but it was sca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162920" y="48769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086600" y="45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049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3" name="" descr="Arkansas: Map and State Flag"/>
          <p:cNvPicPr/>
          <p:nvPr/>
        </p:nvPicPr>
        <p:blipFill>
          <a:blip r:embed="rId1"/>
          <a:stretch/>
        </p:blipFill>
        <p:spPr>
          <a:xfrm>
            <a:off x="0" y="0"/>
            <a:ext cx="2529000" cy="3886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64" name=""/>
          <p:cNvSpPr/>
          <p:nvPr/>
        </p:nvSpPr>
        <p:spPr>
          <a:xfrm>
            <a:off x="228600" y="4038480"/>
            <a:ext cx="8915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Ben’s Guide to Government for kids, </a:t>
            </a:r>
            <a:r>
              <a:rPr b="0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Quick Facts Arkansas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,9/22/20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http://bensguide.gpo.gov/3-5/state/arkansas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43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rkans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All images Copyright © 1997 - 2000 WriteLine. All Rights Reserved. Little Rock Capitol Christmas ights "/>
          <p:cNvPicPr/>
          <p:nvPr/>
        </p:nvPicPr>
        <p:blipFill>
          <a:blip r:embed="rId1"/>
          <a:stretch/>
        </p:blipFill>
        <p:spPr>
          <a:xfrm>
            <a:off x="0" y="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0" y="3886200"/>
            <a:ext cx="6781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Little Rock, Ar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,9/23/2010,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http://www.postcardsfrom.com/t1/981218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3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59Z</dcterms:created>
  <dc:creator>install</dc:creator>
  <dc:description/>
  <dc:language>en-US</dc:language>
  <cp:lastModifiedBy>install</cp:lastModifiedBy>
  <dcterms:modified xsi:type="dcterms:W3CDTF">2010-10-14T13:22:05Z</dcterms:modified>
  <cp:revision>15</cp:revision>
  <dc:subject/>
  <dc:title>Slide 1</dc:title>
</cp:coreProperties>
</file>